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53A-A148-456A-AEDB-89170230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C94-2CBF-4814-8539-38E3417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E57-4A92-4197-9B24-B30EE06A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4C1-D644-499B-A511-F7CDF6F3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C5D-99BE-46F8-89ED-A64DB7C2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017-31F6-4A90-A6C5-F60F99D8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20C-2BE9-49D5-9917-A66ACAD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47E-D484-4B1D-B00C-1EF1729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B19-9463-4F35-A4BD-E7056DBF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472-3483-447C-88C4-1C4FFDF0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974-B208-41F7-ABFF-B10E157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019-6C71-491C-B759-4E00587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70E-4669-411A-A1EF-8B1E26D6D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visual and tact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I learn better by seeing and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earning 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crete seq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am realistic, orderly, logical and careful of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mispheres of my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that the right hemisphere of my brain is less dominate than the left hemisphere of my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ft hemisphere of my brain is what makes me different from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am very coordinated, and able to figure out how to perform a move or task and I like to learn by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s fun to learn about me and that I know how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I appl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apply it when I am in school and I am working on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 know the best way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9:01Z</dcterms:created>
  <dc:creator>student</dc:creator>
  <dc:description/>
  <dc:language>en-US</dc:language>
  <cp:lastModifiedBy>student</cp:lastModifiedBy>
  <dcterms:modified xsi:type="dcterms:W3CDTF">2010-10-26T13:46:09Z</dcterms:modified>
  <cp:revision>5</cp:revision>
  <dc:subject/>
  <dc:title>My Personal Learning Profile</dc:title>
</cp:coreProperties>
</file>